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E9A-82B1-4C76-B543-152F4E8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2D8-4F3D-4153-A224-E4E811E9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5B7-C43F-469A-A257-5CFFECE9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6F6-4088-486F-99D3-6B134BCE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12E-A28C-47A0-A59B-E2411DA8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837F-58A9-48A1-B00E-61B9E032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A88-2321-4643-9E39-36991F8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B8F-627F-481D-BF7D-A6AFB3E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9E6C-408F-4AD6-8184-EECBB96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D9A7-04D3-4638-9ADF-A63A007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4482-3859-460C-94CF-925FEB5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A43-3AF9-41DA-B02D-C8B5FDAF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272-31A1-48A7-B685-9C09C7D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515-E48F-48BC-8268-8503DB2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F5A-F888-486D-A744-E30F3069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E180-6864-4710-9522-24067FF1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13B-4827-449F-BEB8-AE313748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5D3-CD8B-45F3-B7A4-1093ED16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562-C4D8-49C3-B37E-DC4FF01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21A-730B-4593-9335-6C6974C8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D5B-34CC-42EF-A91C-F23EB6C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390-7496-48F8-A0A7-7C97E2D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9F0-1194-4F05-B0F8-8BF404D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EB4-53C5-4AE3-81F6-52816B26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3AE-7CF7-4CDA-9A1A-B99790D501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976-6BFF-47C9-B80F-00A892C5BF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orld Trade Center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inancial heart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ymbol of American ingen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urpose not to assign bl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5438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omehow south tower collap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ost fuel burnt off in huge fire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 56 minutes after impac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399120" cy="350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2922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Controlled demolition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ofessor Steven 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Department of Physics and Ast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Brigham Young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eer reviewed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ral reasons to challenge government sponsor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Molten meta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resent underneath rubble for weeks following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nsistent with thermite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416320"/>
            <a:ext cx="4038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Ejection of steel beam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pperplate Gothic Bold"/>
              </a:rPr>
              <a:t>Horizontal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ejection for hundreds of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ar below collaps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440" y="378000"/>
            <a:ext cx="78991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Dust Cloud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ly all contents were pulverized beyond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25,000 cubic yards of concrete per tower turned to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Another indication of explos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243080"/>
            <a:ext cx="358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1243080"/>
            <a:ext cx="35053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Rapid Collap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upports for lower floors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o resistance, debunking “pancake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Sou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Ejection of b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 free fal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267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2.7 seconds into collapse</a:t>
            </a:r>
            <a:br>
              <a:rPr sz="4000"/>
            </a:b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top 34 floo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Review government’s version of collapse and inconsisten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esent “Controlled Demolition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hat about WTC 7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3.7 seconds into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4 seconds in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43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Nor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693800"/>
            <a:ext cx="7848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7 story steel-frame high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33680" y="2209680"/>
            <a:ext cx="4076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at 5:20 p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and 9/11 Commission inconclusive as to reason fo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572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pperplate Gothic Bold"/>
              </a:rPr>
              <a:t>aftermath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71840" cy="359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030400"/>
            <a:ext cx="40384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ever before or after 9/11 had a steel-structured building collapsed due to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On 9/11 it happened 3 time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 Review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Government’s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ontrolled demoli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TC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0200" y="3801960"/>
            <a:ext cx="5867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Zogby Pol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2% of Americans believe new investigation of 9/11 events should tak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70 million American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Official Ver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– “Structural damage…fires from jet fu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ancake” theory –  9/11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3595680"/>
            <a:ext cx="67057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Additional inform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t911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search.wtc7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vie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y911trut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ingtv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Desig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7 Steel Core Columns  18” x 36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oundation 70’ deep into bed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240 perimeter steel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88080" y="1447920"/>
            <a:ext cx="3381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consistenci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Hyman Brown – WTC Const MGR “over-designed to withstand almost anyt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of plane similar to pencil into a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Fire melted steel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1517 degrees F max for jet fuel fires at optimum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elting point of steel – 2750 degrees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Black smoke signifies oxygen starv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1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6920" y="2479680"/>
            <a:ext cx="3809880" cy="308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479680"/>
            <a:ext cx="40384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mpact 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1 (nor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8:46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10:28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2 (sou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9:03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9:59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495600"/>
            <a:ext cx="3124440" cy="28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505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3:43:23Z</dcterms:created>
  <dc:creator>sh</dc:creator>
  <dc:description/>
  <dc:language>en-US</dc:language>
  <cp:lastModifiedBy>user</cp:lastModifiedBy>
  <dcterms:modified xsi:type="dcterms:W3CDTF">2006-07-17T17:17:31Z</dcterms:modified>
  <cp:revision>13</cp:revision>
  <dc:subject/>
  <dc:title>Slide 1</dc:title>
</cp:coreProperties>
</file>