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EEE-838E-4C0C-B12B-672E6E4E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A8E-FC34-48E0-9490-175DFA5B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2A5-B735-4AD1-8B40-1B3BE9B1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7E1-83A7-4C1E-8A92-333A1375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F310-BF18-4281-8D2B-AC14E470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6EE3-0BA1-4C44-B21E-A62E2AE1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F651-D904-4A92-86C3-EC354E70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D095-45AB-46E8-89EC-69D4B225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A547-2397-4D60-85D9-348E7CA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64CA-7647-4FA5-A2AF-8AB64995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F3A-7257-45E1-B261-513DB2BD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CA7-6445-4A13-83DD-C68D874B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2D3B-4BEE-4CF7-BCDA-96524EB4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7C56-366B-466D-A576-0963F518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B156-3D4D-4AE6-8DAD-3E6075F5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EA1E-8B49-4958-A451-0BE36108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0610-0B75-4198-B1CA-FED30D5E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36A-6C3D-4FEC-BA16-A0051DAC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E06-9417-47C8-BA03-08D5BD6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5DA-3415-453F-AC5B-9FDA7E9B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476-A755-40AB-AE07-276B3DD9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C53-4CD7-4920-9F5D-8BA6608E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C09-FF8A-4FF6-8DE8-AF59CC6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EA5-E6AF-448B-B907-A4F6BD4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5C6A-C701-46FE-98E4-A3B09CF8DD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C1DD-AC41-47D9-8353-CF919FC04C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orld Trade Center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inancial heart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ymbol of American ingen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urpose not to assign bl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5438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omehow south tower collapsed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ost fuel burnt off in huge fire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d  56 minutes after impac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3399120" cy="3504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2922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Controlled demolition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rofessor Steven J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Department of Physics and Astr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Brigham Young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eer reviewed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veral reasons to challenge government sponsor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Molten metal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resent underneath rubble for weeks following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nsistent with thermite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416320"/>
            <a:ext cx="40384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Ejection of steel beam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pperplate Gothic Bold"/>
              </a:rPr>
              <a:t>Horizontal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ejection for hundreds of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ar below collaps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440" y="378000"/>
            <a:ext cx="78991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Dust Cloud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Nearly all contents were pulverized beyond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425,000 cubic yards of concrete per tower turned to 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Another indication of explos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1243080"/>
            <a:ext cx="3581280" cy="267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1243080"/>
            <a:ext cx="35053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Rapid Collap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upports for lower floors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o resistance, debunking “pancake”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South Tower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Ejection of b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Near free fall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267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2.7 seconds into collapse</a:t>
            </a:r>
            <a:br>
              <a:rPr sz="4000"/>
            </a:b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top 34 floor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Bold"/>
              </a:rPr>
              <a:t>WORLD TRADE CENTER COLLAPS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Review government’s version of collapse and inconsistenc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resent “Controlled Demolition”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hat about WTC 7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3.7 seconds into collaps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029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4 seconds into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343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North Tower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693800"/>
            <a:ext cx="78487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7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47 story steel-frame high 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33680" y="2209680"/>
            <a:ext cx="4076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7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d at 5:20 p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EMA and 9/11 Commission inconclusive as to reason fo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572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Copperplate Gothic Bold"/>
              </a:rPr>
              <a:t>aftermath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371840" cy="3595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030400"/>
            <a:ext cx="40384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ever before or after 9/11 had a steel-structured building collapsed due to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On 9/11 it happened 3 time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n Review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Government’s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Controlled demolition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TC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0200" y="3801960"/>
            <a:ext cx="5867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Zogby Poll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May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42% of Americans believe new investigation of 9/11 events should take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70 million American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Official Ver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EMA – “Structural damage…fires from jet fu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ancake” theory –  9/11 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3595680"/>
            <a:ext cx="67057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Additional inform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t911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911research.wtc7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911review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y911trut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ingtv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Bold"/>
              </a:rPr>
              <a:t>World Trade Center Design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47 Steel Core Columns  18” x 36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oundation 70’ deep into bed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240 perimeter steel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88080" y="1447920"/>
            <a:ext cx="3381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nconsistenci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Hyman Brown – WTC Const MGR “over-designed to withstand almost anyt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of plane similar to pencil into a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Fire melted steel?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1517 degrees F max for jet fuel fires at optimum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elting point of steel – 2750 degrees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Black smoke signifies oxygen starved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1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76920" y="2479680"/>
            <a:ext cx="3809880" cy="3083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479680"/>
            <a:ext cx="40384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mpact to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TC 1 (nor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8:46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 10:28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TC 2 (sou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9:03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 9:59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3495600"/>
            <a:ext cx="3124440" cy="2851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35053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03:43:23Z</dcterms:created>
  <dc:creator>sh</dc:creator>
  <dc:description/>
  <dc:language>en-US</dc:language>
  <cp:lastModifiedBy>user</cp:lastModifiedBy>
  <dcterms:modified xsi:type="dcterms:W3CDTF">2006-07-17T17:17:31Z</dcterms:modified>
  <cp:revision>13</cp:revision>
  <dc:subject/>
  <dc:title>Slide 1</dc:title>
</cp:coreProperties>
</file>