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8F8E-28A8-4951-9E32-01748C21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FF5D-28B5-4162-985B-97E83BF2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10E2-EFA3-4E1B-9A13-E75DCA11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4238-E75C-4C05-8104-9810E039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14F0-7CFB-4916-9136-B7B08EAC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5BF1-C692-403A-861D-30C90DF0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31D9-08AD-4C0B-A349-884F6932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0617-1304-4942-B801-7A776E81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6F86-D1D7-4B44-8D58-D226A838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7FB7-6ED5-4A4E-A567-7ED28B19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5D76-5D19-46BC-9101-37F6D0A6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AE8B-47E0-4E83-B8EE-6A831AD6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45FA-2F27-465A-B4C9-FF1E461B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250B-D892-4EEE-BDE0-0AB881BD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C883-9594-45D2-9B5C-6986B8AA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5840-F805-434A-A440-13D952F7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C115-84B8-4E7B-A5D0-36A8CAE3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24C3-367C-4ECA-9D2F-FC450DD5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4908-E0F8-454E-BDC0-F3759CAE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5124-73DC-44BE-AF8D-D9CA099D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F7EF-567A-4652-B720-E189949E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E2DF-502A-4ADD-9053-6F912C4B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8C12-989E-4CBB-B04E-3AE99ED8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9224-628D-41F8-BBC9-366257C0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6d776e"/>
                </a:gs>
                <a:gs pos="5000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39ea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d894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302D-4268-4F85-9404-21ADD3CBB34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6d776e"/>
                </a:gs>
                <a:gs pos="5000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A16B-0466-4060-8E14-818FBE34E22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World Trade Center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Financial heart of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Symbol of American ingenu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Purpose not to assign bl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75438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Somehow south tower collapsed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Most fuel burnt off in huge fireb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Collapsed  56 minutes after impac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3399120" cy="3504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105520" y="304920"/>
            <a:ext cx="329220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Controlled demolition 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Professor Steven J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Department of Physics and Astr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Brigham Young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Peer reviewed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Several reasons to challenge government sponsored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Molten metal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present underneath rubble for weeks following at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Consistent with thermite char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2416320"/>
            <a:ext cx="4038480" cy="28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Ejection of steel beam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pperplate Gothic Bold"/>
              </a:rPr>
              <a:t>Horizontal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 ejection for hundreds of f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Far below collapse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22440" y="378000"/>
            <a:ext cx="789912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Dust Cloud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Nearly all contents were pulverized beyond recog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425,000 cubic yards of concrete per tower turned to d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Another indication of explosi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3520" y="1243080"/>
            <a:ext cx="3581280" cy="2674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724280" y="1243080"/>
            <a:ext cx="350532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Rapid Collapse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Supports for lower floors destroy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No resistance, debunking “pancake”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Light"/>
              </a:rPr>
              <a:t>South Tower Collaps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Ejection of b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D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Near free fall collap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267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Copperplate Gothic Light"/>
              </a:rPr>
              <a:t>2.7 seconds into collapse</a:t>
            </a:r>
            <a:br>
              <a:rPr sz="4000"/>
            </a:br>
            <a:r>
              <a:rPr b="0" lang="en-US" sz="4000" spc="-1" strike="noStrike">
                <a:solidFill>
                  <a:srgbClr val="dddddd"/>
                </a:solidFill>
                <a:latin typeface="Copperplate Gothic Light"/>
              </a:rPr>
              <a:t>top 34 floors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0292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Copperplate Gothic Bold"/>
              </a:rPr>
              <a:t>WORLD TRADE CENTER COLLAPSE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Review government’s version of collapse and inconsistenc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Present “Controlled Demolition”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What about WTC 7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Copperplate Gothic Light"/>
              </a:rPr>
              <a:t>3.7 seconds into collapse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0292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Light"/>
              </a:rPr>
              <a:t>4 seconds into collaps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343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Light"/>
              </a:rPr>
              <a:t>North Tower Collaps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1693800"/>
            <a:ext cx="784872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WTC 7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47 story steel-frame high r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33680" y="2209680"/>
            <a:ext cx="4076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6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WTC 7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Collapsed at 5:20 p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FEMA and 9/11 Commission inconclusive as to reason for collap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45720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Copperplate Gothic Bold"/>
              </a:rPr>
              <a:t>aftermath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371840" cy="3595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48320" y="2030400"/>
            <a:ext cx="40384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Never before or after 9/11 had a steel-structured building collapsed due to 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On 9/11 it happened 3 times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In Review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Government’s ver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Controlled demolition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WTC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00200" y="3801960"/>
            <a:ext cx="58672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Zogby Poll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May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42% of Americans believe new investigation of 9/11 events should take 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70 million Americans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Official Vers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FEMA – “Structural damage…fires from jet fue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Pancake” theory –  9/11 Com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95280" y="3595680"/>
            <a:ext cx="670572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Additional informa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St911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911research.wtc7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911review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Ny911truth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Wingtv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Copperplate Gothic Bold"/>
              </a:rPr>
              <a:t>World Trade Center Design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47 Steel Core Columns  18” x 36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Foundation 70’ deep into bedr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240 perimeter steel colum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888080" y="1447920"/>
            <a:ext cx="33811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73200" y="277920"/>
            <a:ext cx="779760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Inconsistencie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Hyman Brown – WTC Const MGR “over-designed to withstand almost anyth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Impact of plane similar to pencil into a sc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4038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Fire melted steel?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1517 degrees F max for jet fuel fires at optimum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Melting point of steel – 2750 degrees 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Black smoke signifies oxygen starved f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WTC 1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76920" y="2479680"/>
            <a:ext cx="3809880" cy="3083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2479680"/>
            <a:ext cx="403848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opperplate Gothic Bold"/>
              </a:rPr>
              <a:t>Impact to Collaps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WTC 1 (nor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Impact 8:46 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Collapse 10:28 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WTC 2 (sou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Impact 9:03 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Collapse 9:59 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3495600"/>
            <a:ext cx="3124440" cy="2851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724280" y="3505320"/>
            <a:ext cx="35053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6T03:43:23Z</dcterms:created>
  <dc:creator>sh</dc:creator>
  <dc:description/>
  <dc:language>en-US</dc:language>
  <cp:lastModifiedBy>user</cp:lastModifiedBy>
  <dcterms:modified xsi:type="dcterms:W3CDTF">2006-07-17T17:17:31Z</dcterms:modified>
  <cp:revision>13</cp:revision>
  <dc:subject/>
  <dc:title>Slide 1</dc:title>
</cp:coreProperties>
</file>