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700-520A-4E87-AB76-81A67366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DC6-50F7-4CB6-A221-C43F16FA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B43-90AF-41C0-9D63-505BDE32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3BC-683C-43C1-B913-23AC48D1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B690-26F6-4DAC-BAA9-66FF10BD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6466-0388-436F-BD8A-09E6B8B8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AAD3-964A-4835-A1FD-3B437C45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900D-0A55-4471-B261-40B13A19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F429-DA58-4B3C-99A2-8A5B14F9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E5FA-0777-4C3C-97CD-66C091A7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F37D-B6C5-41DC-9421-FEC75BE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8DB-B89B-4710-B979-80EC50E6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922E-CF7E-41FF-A10E-E0BD7170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056D-330A-4B83-9DB7-0BCF593A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5479-1F90-4E64-8098-3ED36212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13DB-5080-4307-8859-78BA8C3A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EE39-0A18-4E5B-8DAC-725285BE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E5B-FD33-40DE-8917-C5315BBA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565-401A-4E51-AB6D-282A8B72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78C-C38C-4978-9BE7-4110E37E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083-33B9-4B0D-A752-8B834D0F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C3E-04F5-4EE4-A37F-2280A2A8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E8D-37F4-4458-BA9A-75DF8495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395-B306-43A7-B610-48B0113A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940C-6C78-4BF2-821B-C457F46522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FD14-E8B7-44CB-BF9D-2886A564320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orld Trade Center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inancial heart of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ymbol of American ingen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urpose not to assign bl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5438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omehow south tower collapsed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Most fuel burnt off in huge fireb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d  56 minutes after impac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3399120" cy="3504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2922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Controlled demolition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rofessor Steven J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Department of Physics and Astr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Brigham Young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eer reviewed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veral reasons to challenge government sponsor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Molten metal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resent underneath rubble for weeks following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nsistent with thermite 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2416320"/>
            <a:ext cx="40384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Ejection of steel beam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pperplate Gothic Bold"/>
              </a:rPr>
              <a:t>Horizontal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ejection for hundreds of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ar below collaps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440" y="378000"/>
            <a:ext cx="78991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Dust Cloud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Nearly all contents were pulverized beyond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425,000 cubic yards of concrete per tower turned to 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Another indication of explos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1243080"/>
            <a:ext cx="3581280" cy="267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1243080"/>
            <a:ext cx="350532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Rapid Collaps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upports for lower floors destr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o resistance, debunking “pancake”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South Tower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Ejection of b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Near free fall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267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2.7 seconds into collapse</a:t>
            </a:r>
            <a:br>
              <a:rPr sz="4000"/>
            </a:b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top 34 floors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Bold"/>
              </a:rPr>
              <a:t>WORLD TRADE CENTER COLLAPSE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Review government’s version of collapse and inconsistenc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resent “Controlled Demolition”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hat about WTC 7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3.7 seconds into collapse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029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4 seconds into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343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North Tower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693800"/>
            <a:ext cx="78487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7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47 story steel-frame high 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33680" y="2209680"/>
            <a:ext cx="4076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7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d at 5:20 p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EMA and 9/11 Commission inconclusive as to reason fo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572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Copperplate Gothic Bold"/>
              </a:rPr>
              <a:t>aftermath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371840" cy="3595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030400"/>
            <a:ext cx="40384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ever before or after 9/11 had a steel-structured building collapsed due to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On 9/11 it happened 3 time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n Review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Government’s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Controlled demolition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TC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0200" y="3801960"/>
            <a:ext cx="5867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Zogby Poll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May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42% of Americans believe new investigation of 9/11 events should take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70 million American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Official Ver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EMA – “Structural damage…fires from jet fu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ancake” theory –  9/11 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3595680"/>
            <a:ext cx="67057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Additional inform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t911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911research.wtc7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911review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y911truth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ingtv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Bold"/>
              </a:rPr>
              <a:t>World Trade Center Design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47 Steel Core Columns  18” x 36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oundation 70’ deep into bed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240 perimeter steel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88080" y="1447920"/>
            <a:ext cx="3381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nconsistenci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Hyman Brown – WTC Const MGR “over-designed to withstand almost anyt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of plane similar to pencil into a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Fire melted steel?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1517 degrees F max for jet fuel fires at optimum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Melting point of steel – 2750 degrees 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Black smoke signifies oxygen starved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1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76920" y="2479680"/>
            <a:ext cx="3809880" cy="3083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479680"/>
            <a:ext cx="40384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mpact to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WTC 1 (nor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8:46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 10:28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WTC 2 (sou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9:03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 9:59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3495600"/>
            <a:ext cx="3124440" cy="2851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35053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03:43:23Z</dcterms:created>
  <dc:creator>sh</dc:creator>
  <dc:description/>
  <dc:language>en-US</dc:language>
  <cp:lastModifiedBy>user</cp:lastModifiedBy>
  <dcterms:modified xsi:type="dcterms:W3CDTF">2006-07-17T17:17:31Z</dcterms:modified>
  <cp:revision>13</cp:revision>
  <dc:subject/>
  <dc:title>Slide 1</dc:title>
</cp:coreProperties>
</file>